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29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0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1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C6C0-6DD5-415F-9B28-1B60C99A142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813-7A19-4506-BF3F-C480880D3D6B}" type="slidenum">
              <a:rPr b="0" lang="bg-BG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DCB-D26C-4A42-8A94-AD9FBBC4DA48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EED-6C3B-4062-9111-FDFBFF10CEEA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75C5-4495-4D2A-9F1A-DDE5A9508BAE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3CDD-C729-45E6-BF19-B91C1A9AA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296D-3824-4BA8-8F7B-96F3512750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EB916-3248-4B5A-9F40-DF8B8F76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69FF8-90B3-47B0-B36C-414F33E8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BA3A7-C295-45E8-BBE3-CE1C6C0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23F80-E6A7-49C6-9EF0-69AB900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641DE-C02D-4A90-851F-47E2406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FF8DB-2E44-455D-840D-1272B41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7DC66-12C9-43B9-9C8A-31DD05D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033E0-3D4D-45EF-B952-41A50912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CEF8F-BA16-4CD0-9F02-BBA8771F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5ED7FF-1ED4-493E-9F63-576FDCA1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9104-1108-472B-B0B4-DD0180BD97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BAE28-78FF-424F-A29C-8555E85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09219-0767-4BE2-97F0-3BE5EC0A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C0B4E-43FB-4A4C-9118-37A8427F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B4483-A729-4519-B48C-0822C932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5D593-FD15-41AB-86C1-04B3E48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869BF-E13D-46F6-AA08-EA70B6B2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5A2656-CB3B-492B-AF77-CB06EA4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EB49A0-EB18-43B9-9663-D2CDBF9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DE9C7-6692-48BA-8354-9BC6242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C4C8F-3E13-49CC-B18C-4A906763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F8EB-08F0-4925-8DBC-6B9F4509B3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7AF6C7-E619-46D8-A76D-334998F5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1BFBDB-1678-46C9-9817-427D87FA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98DD9-43A8-4018-9317-87F11C5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52A89-CE10-4E7D-A18C-CF33E481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BB2F7-EE4A-42F0-87E1-6D5870F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A0897-1DA1-460A-8261-A4BF4E0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ADACD-11EF-47FD-B886-44112488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539D2-188C-4886-8E59-0A3DCDC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62E6D-4FA4-43D0-BAE5-C5FECFD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F2029-5F04-4082-8DCC-7CAD6C1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5A2-B406-42C9-9A3E-4CC68D309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A34F4-8C47-48B3-AFD7-4388D1D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48566-A1A0-4BDD-AE0A-1BBEBE38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695F4-08A4-4039-BF16-C786DDF8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4F5-5B84-4A6B-842E-F617209A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C0A74-5D9B-4307-97F5-DBC3344AF8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FAD1-6161-4FE9-A5E9-26775310853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ECE28-5A2A-498D-8C68-FF72054082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57C46-BA5F-4EA9-829D-209535A3AC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3782-0B3D-4D4B-AEC3-8D52E90E4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735-53E7-48F0-A8F2-C53C5049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941A1-A849-4CF8-97FC-040DBD506F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D10EA-16A8-43DC-9C26-C69E1321977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8ECC-D487-413A-8E6D-6C1610B5BA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9E27D-3EE9-47EA-90A3-F85DA92D5A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6BBC-1889-44B0-8BE8-3567BCD492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1530A-EC48-4BB2-AA19-77B8144E69A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84F9E-25A1-46A2-A418-68351AA305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F76-CFAB-4579-A5C6-BF67019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69B-EA46-4580-AFD0-F07D41AA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F0-F904-4EF6-A73A-9CB31E43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87D-B0BE-4715-93DA-0E1DDC17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7B62-6528-42FD-8483-903ABA983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40C-D4A7-44D9-9537-970C08B0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EF7-2A05-485F-AACE-32A95C9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047-50DC-4BF8-8A1C-16FA7212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C0A-0717-4D74-85AD-A113DF9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4A2-4FB4-4646-B8FA-858A60068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2A557-8648-4715-A34D-10024C3B1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7103-1284-4C3E-9594-BD221797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57B4F-A8C0-4AED-A609-D0BE26E6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56AE6-629B-40AB-955A-03292E9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5149-C6F4-4727-A369-C2A8A42E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59BA-185B-431C-96B1-93A04AAD94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5B8CB-28EC-459A-A37D-80EDB978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C66D9-8D76-4945-A0C8-A4A5006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45EEF-48A1-4DD2-A76B-236A78F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7D2C-827D-444A-B898-0F595E3D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1742-F2A0-4504-BFCA-6ABD158D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8B89F-5BC8-4B12-9F0E-B8A2937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6325-243F-40B3-AE2F-F6E0579075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8A67F-5E3B-4782-800E-14A0A205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20028-333F-4D82-9193-E14635C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2A5FA-7EFE-4553-A5DF-9989FC8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D22C-F2C0-42E6-A96C-8FC3F740F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EA6D4-3054-4928-AC8C-2F6075E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2AA5B-D39A-4C4A-A35B-9313F86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5A31E-FFD5-4451-A28D-73E777CE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751F4-6F11-4DC5-B4CF-46CAD91C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780A1-ACE4-4CB5-A60E-9BDC874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96532-7C3B-42D0-95C1-E5E5153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81AD6-CFD0-4E5C-A580-BAD5605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08469-8A72-4DC4-B8E1-2798CDCE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EF0A8-7F3A-4BF8-92A8-196798C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1943A-802C-4170-A5F4-F75DFD7F8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5A48-0DAB-49A9-8BDF-C649C28F40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80248-FB4C-447F-8F53-C103C9C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D5B56-BDA0-4C23-9722-5B9A24E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FA9DF-D76D-4C42-B228-4192424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91A6F-3B5A-4E60-80CB-EFCBD699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DAA5C-C150-4976-96D5-B94FD1F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AFB6E-37C0-44C0-9838-808E7BD6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C2919-FAA7-4735-9535-612AF61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5F09E-9B02-4885-B3AD-268C76E8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A764E-D0C2-44A8-ADF0-055D1AC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78637-FDC2-4DB7-BEA7-E16CCF6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0612-11EC-4563-B69B-0A7B149B4E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64A74-68FB-4D62-AD4B-5A5268524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46E43-02B7-41E2-9153-01317EF05C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926A4-9F60-4E31-9B2D-FC8D315FE3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A92A4-774A-4F87-9994-3D6E69BDD4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15222-1DD3-4664-97A6-9F1AC103B1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6D0A0-9B02-44D3-96EC-C67E765274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2FBDD-0632-4A80-B1AC-CF9695D805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6E10C-9C5B-4C2D-A18F-6B4799738B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2B9A0-8107-466F-A63B-6055852925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12604-40AB-4DC9-822C-C3B333846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E011-2C6C-43DF-834A-F0A044063B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55D1C-5EBE-432D-B963-2E18CB2513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9FC9A-BB93-43F3-BD1B-C0EB66904A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8208F-25DC-4205-8905-BEA5569F26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6EBFB-009B-43E5-A3A9-B102616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69D5D-2185-44C7-BE7F-172A43A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B5B27-7991-487F-A3ED-1B4E006F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7EC43-997B-4F6E-ACDE-36E3C6A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BFF28-ECE3-4414-B7C8-2028FD2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B7215-170E-44F0-8393-5391F40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3780D-5B63-4E23-837D-AEB0085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A244-C85C-4C24-945D-ED352B2E8D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07403-9FE1-4D69-8F65-6563985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3E865-0106-406E-AE2E-C8A15FD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1EAC4-F11C-435F-8983-081F09F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DBD0E-5686-4DD6-8F41-323A3871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BC51E-D3BC-4DF7-A641-0D86188B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56890-5358-43F9-ACD1-9B61C470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CA1BC-03AE-4395-918F-A4F82452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1B4E7-D149-480D-A1B1-4286D9C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FF76D-4CE2-4C8E-9309-812E8163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B0149-AC3C-485F-B317-E34C86A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DD3F-15C7-471F-85E2-5F4734D7E6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971280" y="43920"/>
            <a:ext cx="771516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DC838-F7DF-4300-911D-0FA6C4C2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C00EF-7C74-4886-9C7F-01E065F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76611-2976-4A7C-AE59-8700F90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E8C89-224D-4258-AB6F-C9E0D987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971280" y="3805920"/>
            <a:ext cx="77151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3D9DC-4344-454E-8B4C-252AC31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24800" y="126828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7128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24800" y="3805920"/>
            <a:ext cx="3764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D595E-9FC8-4276-89EC-B8B53C4A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7984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8400" y="126828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7128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7984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8400" y="3805920"/>
            <a:ext cx="24840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414A1-F284-449D-86B5-430DEE75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97A82-0B42-49BA-8603-FC7F67EA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253CD-533C-484B-8EFD-D1E86447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B2390-4A7A-431D-97DD-8C84433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BBF7-100D-4741-ADEA-458717746B66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44E-596B-4CDD-A157-3D773F1025F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2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F383-BF46-4950-817F-C0D2E82321EE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2FC-EDC0-4B98-B910-782252F41EB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5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059-6807-46F7-9123-3240B3BA4982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27"/>
          </p:nvPr>
        </p:nvSpPr>
        <p:spPr>
          <a:xfrm>
            <a:off x="7451640" y="6552720"/>
            <a:ext cx="72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E3E-0A38-4A28-8297-2D4CFED9175B}" type="slidenum">
              <a:rPr b="0" lang="bg-BG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8"/>
          </p:nvPr>
        </p:nvSpPr>
        <p:spPr>
          <a:xfrm>
            <a:off x="971280" y="6559200"/>
            <a:ext cx="546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E67A-EDEE-45DB-A608-9A22A669C75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AE8-B82E-4EB6-A489-624844B0794C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558-67DE-4EA3-9531-B2D7BB395A6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5"/>
          </p:nvPr>
        </p:nvSpPr>
        <p:spPr>
          <a:xfrm>
            <a:off x="838800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C4B-A934-425D-8EFE-108192229EEF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9EE-3D32-4853-BB2D-C429FC9F277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7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318-FAE3-42CF-B994-A3E85BFCE115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160A-43D5-451D-84D8-C8BE4E382C1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FFE-25E3-4859-A78A-D63BFBCF8994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3EE6-1BBF-4DB5-B570-DE63002626D4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B61-F8F5-4969-9753-463B0D720C5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3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5F9-97D6-4322-996B-A24C959420E2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7EE3-5886-412D-AB36-09962AABEB3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6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751-5610-4C20-84DF-3D55950EB547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8B7-4DDE-437B-96C7-4C9482F42B7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5292360" y="63658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E31-6611-435C-A8C6-AD64D2FCC7B9}" type="slidenum">
              <a:rPr b="0" lang="bg-BG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"/>
          <p:cNvSpPr/>
          <p:nvPr/>
        </p:nvSpPr>
        <p:spPr>
          <a:xfrm>
            <a:off x="1787400" y="1700280"/>
            <a:ext cx="7356600" cy="38671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ЮДЖ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 ДЪРЖАВНОТО ОБЩЕСТВЕНО ОСИГУРЯВА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 20</a:t>
            </a:r>
            <a:r>
              <a:rPr b="0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</a:t>
            </a:r>
            <a:r>
              <a:rPr b="0" lang="bg-BG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8 г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1798560" y="5950080"/>
            <a:ext cx="7318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я, Октомври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C:\Documents and Settings\Elka\My Documents\PISMA\BLANKI\CU\ДОКУМЕНТИ\Tzetno_s_NOI.jpg"/>
          <p:cNvPicPr/>
          <p:nvPr/>
        </p:nvPicPr>
        <p:blipFill>
          <a:blip r:embed="rId1"/>
          <a:stretch/>
        </p:blipFill>
        <p:spPr>
          <a:xfrm>
            <a:off x="4427640" y="339840"/>
            <a:ext cx="14414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олидиран бюджет 20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000" y="1352520"/>
            <a:ext cx="84963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ходи и трансфери – общо 11 067,3 млн. лв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осигурителни вноски 6 517,6 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 неданъч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лн. л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рансфери от ЦБ –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495,1 млн. лв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ДОО – 308,8 млн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окриване на недостига от средства – 4 186,3 млн. л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ходи и трансфери – общо 11 067,3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лн. лв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сии (вкл. капиталов трансфер) – 9 455,9 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ни помощи и обезщетения – 1 4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жби по социално осигуряване – 113,9 млн. лв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ставени трансфери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55E-38FC-4875-AB83-02A3E1909146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730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ходи и трансфери по КБДОО за 2018 г.</a:t>
            </a:r>
            <a:endParaRPr b="0" lang="en-US" sz="28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798-2DD0-4995-BC00-3F564ABEB07B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Chart 4" descr=""/>
          <p:cNvPicPr/>
          <p:nvPr/>
        </p:nvPicPr>
        <p:blipFill>
          <a:blip r:embed="rId1"/>
          <a:stretch/>
        </p:blipFill>
        <p:spPr>
          <a:xfrm>
            <a:off x="1944720" y="1328760"/>
            <a:ext cx="6370560" cy="4694040"/>
          </a:xfrm>
          <a:prstGeom prst="rect">
            <a:avLst/>
          </a:prstGeom>
          <a:ln w="0">
            <a:noFill/>
          </a:ln>
        </p:spPr>
      </p:pic>
      <p:pic>
        <p:nvPicPr>
          <p:cNvPr id="607" name="Chart 6" descr=""/>
          <p:cNvPicPr/>
          <p:nvPr/>
        </p:nvPicPr>
        <p:blipFill>
          <a:blip r:embed="rId2"/>
          <a:stretch/>
        </p:blipFill>
        <p:spPr>
          <a:xfrm>
            <a:off x="2133720" y="1494000"/>
            <a:ext cx="6377040" cy="4694040"/>
          </a:xfrm>
          <a:prstGeom prst="rect">
            <a:avLst/>
          </a:prstGeom>
          <a:ln w="0">
            <a:noFill/>
          </a:ln>
        </p:spPr>
      </p:pic>
      <p:pic>
        <p:nvPicPr>
          <p:cNvPr id="608" name="Chart 7" descr=""/>
          <p:cNvPicPr/>
          <p:nvPr/>
        </p:nvPicPr>
        <p:blipFill>
          <a:blip r:embed="rId3"/>
          <a:stretch/>
        </p:blipFill>
        <p:spPr>
          <a:xfrm>
            <a:off x="2127240" y="1328760"/>
            <a:ext cx="5694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985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ходи и трансфери по КБДОО за 2018 г.</a:t>
            </a:r>
            <a:endParaRPr b="0" lang="en-US" sz="28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2FA-4E55-4BF8-83E1-EA7FEBA68B3D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Текстов контейнер 4"/>
          <p:cNvSpPr/>
          <p:nvPr/>
        </p:nvSpPr>
        <p:spPr>
          <a:xfrm>
            <a:off x="971640" y="1197000"/>
            <a:ext cx="6985080" cy="431640"/>
          </a:xfrm>
          <a:custGeom>
            <a:avLst/>
            <a:gdLst/>
            <a:ahLst/>
            <a:rect l="l" t="t" r="r" b="b"/>
            <a:pathLst>
              <a:path w="6985000" h="431800">
                <a:moveTo>
                  <a:pt x="0" y="0"/>
                </a:moveTo>
                <a:lnTo>
                  <a:pt x="6913032" y="0"/>
                </a:lnTo>
                <a:lnTo>
                  <a:pt x="6985000" y="71968"/>
                </a:lnTo>
                <a:lnTo>
                  <a:pt x="6985000" y="431800"/>
                </a:lnTo>
                <a:lnTo>
                  <a:pt x="0" y="4318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Chart 5" descr=""/>
          <p:cNvPicPr/>
          <p:nvPr/>
        </p:nvPicPr>
        <p:blipFill>
          <a:blip r:embed="rId1"/>
          <a:stretch/>
        </p:blipFill>
        <p:spPr>
          <a:xfrm>
            <a:off x="517680" y="706320"/>
            <a:ext cx="810864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7715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сии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ст за всяка година осигурителен стаж 1,169 – от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уари 2018 г.  за новоотпуснатите пенсии и от 1 юли 2018 г. за отпуснатите пенсии до 31 декември 2017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ен среден размер на пенсията на един пенсионер през 2018 г.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 лв. или 5,5% нарастване спрямо 2017 г.;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тен коефициент на заместване на дохода – 41,6%; Нетен коефициент – 53,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ен коефициент на зависимост 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 за пен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4,4 млн. лв. или 9,0% от БВ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9F8-729B-48EE-955B-7006A69A3137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84080" y="3240"/>
            <a:ext cx="7319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ходи за социални помощи и обезщетения за 2018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658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A351-7564-47C4-A2ED-29F009BED3D1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Chart 5" descr=""/>
          <p:cNvPicPr/>
          <p:nvPr/>
        </p:nvPicPr>
        <p:blipFill>
          <a:blip r:embed="rId1"/>
          <a:stretch/>
        </p:blipFill>
        <p:spPr>
          <a:xfrm>
            <a:off x="2193840" y="1341360"/>
            <a:ext cx="6701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ход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 службите по социално осигуряване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з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лужбите по социално осигуряване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9 млн. лв. (1,03 на сто от общите разходи) в т.ч.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Разходи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сонал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62,7 млн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ъжка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5 млн. лв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ови разходи (ремонт и придобиване на дълготрайни материални и нематериални активи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рана и сигурност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890-73C0-4364-8C01-34554D3663F3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84080" y="3240"/>
            <a:ext cx="7319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ланс на фондовете на ДОО </a:t>
            </a:r>
            <a:br>
              <a:rPr sz="2500"/>
            </a:b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201</a:t>
            </a:r>
            <a:r>
              <a:rPr b="0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5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FF1-0EA6-4115-9229-87BFF702BAD5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Chart 5" descr=""/>
          <p:cNvPicPr/>
          <p:nvPr/>
        </p:nvPicPr>
        <p:blipFill>
          <a:blip r:embed="rId1"/>
          <a:stretch/>
        </p:blipFill>
        <p:spPr>
          <a:xfrm>
            <a:off x="249120" y="1127160"/>
            <a:ext cx="85708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03280" y="43920"/>
            <a:ext cx="7632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юджет на  Учителския пенсионен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нд </a:t>
            </a:r>
            <a:br>
              <a:rPr sz="2400"/>
            </a:b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 201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834920" y="6958080"/>
            <a:ext cx="7715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Chart 5" descr=""/>
          <p:cNvPicPr/>
          <p:nvPr/>
        </p:nvPicPr>
        <p:blipFill>
          <a:blip r:embed="rId1"/>
          <a:stretch/>
        </p:blipFill>
        <p:spPr>
          <a:xfrm>
            <a:off x="2243160" y="933480"/>
            <a:ext cx="5956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35280" y="43920"/>
            <a:ext cx="68515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юджет на  фонд “Гарантирани вземания на работниците и служителите” за 201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0" lang="bg-BG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.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979640" y="7461360"/>
            <a:ext cx="68515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B4E-8483-42E3-9ABD-3E539107A9A3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hart 5" descr=""/>
          <p:cNvPicPr/>
          <p:nvPr/>
        </p:nvPicPr>
        <p:blipFill>
          <a:blip r:embed="rId1"/>
          <a:stretch/>
        </p:blipFill>
        <p:spPr>
          <a:xfrm>
            <a:off x="1974960" y="1274760"/>
            <a:ext cx="6711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Текстово поле 14"/>
          <p:cNvSpPr/>
          <p:nvPr/>
        </p:nvSpPr>
        <p:spPr>
          <a:xfrm>
            <a:off x="971640" y="29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4f81bd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"/>
          <p:cNvSpPr/>
          <p:nvPr/>
        </p:nvSpPr>
        <p:spPr>
          <a:xfrm>
            <a:off x="1800360" y="5805360"/>
            <a:ext cx="7318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16000" y="54000"/>
            <a:ext cx="8028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аквано изпълнение на бюджета на ДОО за 2017 г.  </a:t>
            </a:r>
            <a:br>
              <a:rPr sz="2400"/>
            </a:b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база отчет за м. август</a:t>
            </a:r>
            <a:endParaRPr b="0" lang="en-US" sz="24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280" y="1483920"/>
            <a:ext cx="799344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 – 6 0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 (360,0 млн. лв., 6,4% повече от план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ителни вноски – 5 918,5 млн. лв. (303,7 млн. лв., 5,4% повече от пла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ходи – 93,5 млн. лв. (56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лв. повече от план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и – 10 490,7 млн. лв. (122,5 млн. лв., 1,2% повече разходи от план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 – 8 975,8 млн. лв. (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лн. лв. 0,5% повече разходи от плана; 13,0 млн. лв. 0,1% по-ниски разходи от плана без изплатените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ократни допълнителни суми към пенсиите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73d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ите обезщетения – 1 431,6 млн. лв. (81,6 млн. лв., 6,0% по-високи разходи от пла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 трансфери  – 4 716,6 млн. л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4 млн. лв., 0,01% по-високи от пл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шък  в края на периода – 237,9 млн. л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9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35F9-899E-4286-9E10-AFA3414919B1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БДО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CF0A-9EB7-4591-8C00-09E619215052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012320"/>
            <a:ext cx="835164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на КБДОО за 2018 г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сновава на тригодишната бюджетна прогноза (2018 – 2020 г.) и е разработен съобразно Бюджетните насоки на МФ за съставяне на проектобюджетите за 2018 г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838080" y="3068640"/>
          <a:ext cx="7621560" cy="2968560"/>
        </p:xfrm>
        <a:graphic>
          <a:graphicData uri="http://schemas.openxmlformats.org/drawingml/2006/table">
            <a:tbl>
              <a:tblPr/>
              <a:tblGrid>
                <a:gridCol w="2797200"/>
                <a:gridCol w="1611360"/>
                <a:gridCol w="1674720"/>
                <a:gridCol w="153828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джет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аквано 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ект  20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огодишен брой осигурени лица,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ен осигурителен доход, обявяван от НО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9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безработни лица с право на обезщетение,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огодишен брой  пенсионери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иля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7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и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A505-7E3E-43E6-AFB1-19AAF02F92A0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9640" y="1389240"/>
            <a:ext cx="806472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размерът на осигурителната вноска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” с един процентен пункт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размерът на осигурителната вноска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 за лицата по чл. 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вата от 2017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т се размерите и съотношенията на осигурителните вноски за останалите фондове на ДОО и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ския пенсионен фонд на нивата от 2017 г.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ен осигурителен доход за самоосигуряващите се лица в размер на 51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ят осигурителен доход за земеделските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а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ютюнопроизводители от 300 лв. на 48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максималният осигурителен доход за всички осигурени лица в размер на 2 60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ки за фон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рани вземания на работниците и служители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з 2018 г. не се прав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53A2-7D67-43F5-8010-070B33BDDC23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1640" y="148392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т се с 2 месеца необходимата възраст и осигурителен стаж за придобиване право на пенсия по чл. 68, ал. 1 и ал. 2 от КСО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1 м./38 г. 6 м. за мъжете и 61г. 2 м./35 г. 6 м. за женит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с 2 месеца необходимата възраст за придобиване право на пенсия по чл. 68, ал. 3 от КСО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г. 2 м. за мъжете и за женит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с 2 месеца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ата възраст за пенсиониране за работещите в сектор „Отбрана и сигурност“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3 г. 2 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т се с 4 месеца необходимата възраст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нно пенсиониране на лицата от първа и втора категория, които не отговарят на условията за пенсиониране по чл. 168 от КС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317080" y="6381720"/>
            <a:ext cx="51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480-4D63-4ED3-9EFD-AC922B0834A0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 януари 2018 г. тежестта за всяка година осигурителен стаж в пенсионната формула се увеличава от 1,126 на 1,169 или с процент равен на 50 на сто от индекса на потребителските цени и 50 на сто от нарастването на средния осигурителен доход през 2017 г. (3,8 на сто, определен по правилото на чл. 100 от КС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ите за трудова дейност се преизчисляват с новата тежест за всяка година осигурителен стаж от 1,169 на сто от 1 юли 2018г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минималният размер на пенсията за осигурителен стаж и възраст  с 3,8 на сто от 1 юли 2018 г.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00,00 лв. на 207,60 лв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максималният размер на получаваните една или повече пенсии на нивото от 1 юли 2015 г.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10 лв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9280" y="1125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минималният дневен размер на обезщетението за безработица от 7,20 лв. на 9 лв. и се определя максимален дневен размер – 74,29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чните обезщетения за безработица се изплащат ежемесечно през месеца, следващ този, за който се дължат, за период според продължителността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ителния стаж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време на който лицата са били осигурени за безработица, за времето след 31.12.2001 г., както след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036-BD66-4ED7-B574-1CDD201124D5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403280" y="3824280"/>
          <a:ext cx="6840720" cy="2341440"/>
        </p:xfrm>
        <a:graphic>
          <a:graphicData uri="http://schemas.openxmlformats.org/drawingml/2006/table">
            <a:tbl>
              <a:tblPr/>
              <a:tblGrid>
                <a:gridCol w="3702240"/>
                <a:gridCol w="3138480"/>
              </a:tblGrid>
              <a:tr h="87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игурител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 стаж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с осигуряване за безработица за времето след 31.12.200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год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иод на изплащане на обезщетение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есец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3 г. и 1 ден до 7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7 г. и 1 ден до 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1 г. и 1 ден до 15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 1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4" name="Rectangle 5"/>
          <p:cNvSpPr/>
          <p:nvPr/>
        </p:nvSpPr>
        <p:spPr>
          <a:xfrm>
            <a:off x="1403280" y="3824280"/>
            <a:ext cx="10337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4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971280" y="1268280"/>
            <a:ext cx="7715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я се режимът на изплащане на паричните обезщетения за временна неработоспособност съгласно чл. 40, ал.5 на КСО - първите три работни дни се изплаща среднодневно брутно възнаграждение в размер 50 на сто от осигурителя, а от 4-тия ден на настъпване на неработоспособността се изплаща парично обезщетение от Д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периодът, от който се изчисляват краткосрочните обезщетения при временна неработоспособност - 18 календарни месеца, а при безработица и бременност и раждане - 24 месец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периодът на изплащане на паричното обезщетение за бременност и раждане - 410 д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ава се размерът на обезщетението за отглеждане на малко дете от една до двегодишна възраст от 340 лв. на 38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ва се размерът на еднократната помощ при смърт на осигурено лице -  540 лв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9C6-FBC9-4F7C-9BEC-DEDFBD81C10E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политик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ходите </a:t>
            </a: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юджет 2018 г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f81bd"/>
              </a:solidFill>
              <a:latin typeface="Cambri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971280" y="1268280"/>
            <a:ext cx="7715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ят се изискванията за право на парично обезщетение за безработиц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есени и дължими осигурителни вноски във фонд „Безработица“ най-малко 12 месеца от последните 18 месец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възможността за получаване на обезщетение за временна неработоспособност след прекратяване на правоотноше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 2018 г. продължава да действа въведената през 2017 г. възможност за майките (осиновителките), които имат право да ползват отпуска при бременност и раждане до навършване на едногодишна възраст на детето, но не го използват, а се върнат на работа, да получат обезщетение от ДОО в размер 50 на сто от полагащото им се обезщетение при бременност и ражда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 се максимален размер на гарантираните вземания – 1300 л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8388360" y="63817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075-1E1F-420F-946B-76CFEDC7B44B}" type="slidenum">
              <a:rPr b="0" lang="bg-BG" sz="1200" spc="-1" strike="noStrike">
                <a:solidFill>
                  <a:srgbClr val="000000"/>
                </a:solidFill>
                <a:latin typeface="Cambr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18:44Z</dcterms:created>
  <dc:creator/>
  <dc:description/>
  <dc:language>en-US</dc:language>
  <cp:lastModifiedBy/>
  <dcterms:modified xsi:type="dcterms:W3CDTF">2017-10-13T13:40:26Z</dcterms:modified>
  <cp:revision>128</cp:revision>
  <dc:subject/>
  <dc:title>BULGARIAN PENSION SYSTEM – RECENT RE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26</vt:r8>
  </property>
  <property fmtid="{D5CDD505-2E9C-101B-9397-08002B2CF9AE}" pid="3" name="_Version">
    <vt:lpwstr>12.0.4518</vt:lpwstr>
  </property>
</Properties>
</file>